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9DA8-BEDB-4857-BDDF-DF49ACA7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D0AA-C0CD-4CAB-AE2F-DC021E8C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6032-2725-43F5-BC15-9E121C6C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7718-D9C6-4626-98CB-0591E570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905A-0E8F-41CB-9E21-0E30D308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EE22-FDBF-47BF-8AD9-AAD00780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2A44-2503-4973-A894-8A5EE0DC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03A2-8EAA-45CB-9991-12A158BF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905C-1C67-4302-AAFA-B042459B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C0D5-774A-4634-A268-0FB22F38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44F1-E183-4182-BAB8-DD311C0B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034F-8ADF-4EB4-8967-01C6E4D4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42B9-FE8C-4B10-AD4C-B654F6F4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C2DF-4E4A-40A1-84E3-EAC75C00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D3CF-2773-4278-A620-6BE92EFF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650D-C6D7-4592-8B74-98FB8F92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4CA4-0DC3-49B9-82FC-9EFDCA62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033D6-F721-4599-95FC-031AE917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70229-A2CE-4523-8999-3A75A1F2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1E8C8-44B1-45DC-BCFA-370CB99A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48AF4-B251-4F41-BFC2-12D30916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F4A53-E359-4F3C-BC52-68E2FAA2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0367-6CCF-460C-A70C-8027DC61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69EE4-ABA5-4AAC-8FF1-BF895EB2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52E97-DF7B-4FE6-803F-2FA2477B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D4E04-C771-4B89-A363-F6D9CCEF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FD6AF-F524-4EDA-91A1-CE7F6C40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C8CC8-7A70-4E79-9214-0A6F8CF8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0F33F-B7A2-4CD5-BD19-0BD7D097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77BB-2BAF-4B5B-9DF0-C7EC6359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A08DB-FDB3-4B34-94BA-B56237FD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F7CB9-8800-4604-984F-BA2FBA00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0960E-ABD8-4A1B-B229-12F0F8D4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D4AF-142B-4680-973B-E771ABA2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7AA8D-7D13-4CA1-9BF4-302097E0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C7FA2-D859-40E9-8427-45507263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91128-E05D-48B6-AC13-4F47FAFB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300FD-CBEB-4CA1-9F86-3053D658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569B2-7B4A-4B3C-9650-56761763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E9B5C-8C4E-41BE-882C-4666AA3F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9B455-8FC0-45DA-9DA8-3282094B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925CB-17A9-4B5F-8B63-359C1057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D79EA-67EC-4BFD-B864-C597F5FB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42FD0-B795-4D5A-9A57-8399C593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9FF-EA62-4E85-8118-C4E26584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685EB-4451-4FAB-B7D4-7F0F1BAC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DFAAF-9411-4008-B570-6AFA9A7F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2D77F-AA20-404C-8D25-D60E32B9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D8364-4912-49FD-8EB1-39E7E048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6A9F3-6C46-4092-A903-AA204714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EA0A4-DBE9-4545-A2F0-C8E3085F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A75BE-0F63-42E8-BDD5-89DB80D0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8789F-D93D-4095-BF36-61A91B33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5C3D3-B219-4BFE-8DB8-0338C705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8A065-986D-4DF6-BC24-8A19489C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4407-A648-47C6-8B2E-BD7FF2E1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96469-6146-478B-A3CA-F03D3D55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F86C8-6EF5-4EEE-8CA2-9AE587F6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D15A1-9C77-4A92-9B14-633F3485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45E8A-5981-4D9C-8FFE-6CB0F2E2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4BAA5-749D-4BE0-84B8-641C30F9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57214-7EF4-48AD-812B-E1E21E63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83FE5-0712-4174-92A6-9A2C2719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06E78-7B93-4F8D-A464-ADCDD483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04A2E-A828-4183-94FC-106C3BD6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A3213-0AE4-460F-BFAF-D1F72C30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147A-5A97-4B33-8DB9-65CD38AF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5D379-F380-40B7-8E1A-A1D71CF8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80E6B-FBD0-4218-8DA1-752322E3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31BBC-1695-45CD-BEFC-62BC4BB9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CFD51-DD5E-4A1A-97C7-C257E443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F9D16-A468-4D82-B709-CE64C037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AB9F9-9429-4E29-827E-0242396F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54DE7-256A-44CC-9220-DEB8F660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2B5DB-67E4-4F2D-B2E5-E23E8F3B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04130-1575-42D5-9635-5964AB7A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9D187-61D7-4604-811D-16F00478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54F2-B37B-4B7A-A84D-CA879B73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95679-577B-4C5D-A6CE-104B6BEB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302DF-E4CC-457E-970C-4F8C08A8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017C3-9D7A-4871-98B8-8B116E22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EFE9A-8D09-45C1-A7FB-F24BD886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1FE24-EA64-4207-8CFC-589F2067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80C53-4A90-46F3-A9A9-57C8631C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F876E-2B01-4D85-9CDB-8BFB4000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66339-8368-43C9-A1EA-761325A1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179CE-FDF0-46B0-8752-EBE0AEB3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B7EBA-6C8B-4B7B-A1EE-3FAAA710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083-C546-4292-AE41-02C8B923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7E2F3-6AE5-494C-8565-7618DA5E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5EE58-0CBA-4CBF-8FB2-74C06CA7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6A54B-79DB-4E60-ACEC-39697FA3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7794D-18A4-4A3C-8E4F-64310E76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16B7E-85E1-49CC-A32D-D5D488AA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C8887-803B-4D79-A8BE-3C8D97C5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2039B-3CD6-4408-B006-5680F8B5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9DE7-A757-4071-ADCA-6AB72283899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848C-3416-48E2-B1D5-A48B3BB0A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2374-3E29-44EF-890A-A0A3CB93A6D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DFFD-3862-496E-A7B5-4FFAAEC92AE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387C-EC31-4710-9186-E0490D6BB98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9853-5663-41CA-8C99-D851E6794C4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55B0-0F1C-43BF-AB61-CA18CE2D00C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56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57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58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59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60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61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62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63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65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66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67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2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3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4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2AD7-65A5-4D01-90CD-176BD359B18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622440" y="4200480"/>
            <a:ext cx="807084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3" descr="broken window.jpg"/>
          <p:cNvPicPr/>
          <p:nvPr/>
        </p:nvPicPr>
        <p:blipFill>
          <a:blip r:embed="rId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58164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I have broken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he window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hat was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on your ho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cat in window.jpg"/>
          <p:cNvPicPr/>
          <p:nvPr/>
        </p:nvPicPr>
        <p:blipFill>
          <a:blip r:embed="rId1"/>
          <a:stretch/>
        </p:blipFill>
        <p:spPr>
          <a:xfrm>
            <a:off x="4267080" y="-14400"/>
            <a:ext cx="4876920" cy="68724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229600" cy="620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And whi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you were probably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going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to look out of today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baseb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47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rgive me…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t was fun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eing the baseball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reak the glass</a:t>
            </a:r>
            <a:br>
              <a:rPr sz="3200"/>
            </a:b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Miller, Dhruv, and T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ken window. dotintime. Im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yard baseball= broken window. Mcruff. Im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by looking out of the window. loW Sparky.  Im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, i b. "Flickr: Search."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elcome to Flickr - Photo Sha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17 Apr. 2009 &lt;http://www.flickr.com/search/?q=broken+window&gt;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3:13:49Z</dcterms:created>
  <dc:creator>Fac - Montgomery,Bruce</dc:creator>
  <dc:description/>
  <dc:language>en-US</dc:language>
  <cp:lastModifiedBy>cyndi.vander_ven</cp:lastModifiedBy>
  <dcterms:modified xsi:type="dcterms:W3CDTF">2009-04-27T01:13:32Z</dcterms:modified>
  <cp:revision>12</cp:revision>
  <dc:subject/>
  <dc:title>The Broken Window</dc:title>
</cp:coreProperties>
</file>